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D2F6-CCE0-4986-A77E-544D77B8D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86D2-1936-40A8-A263-03EAE50081DB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7AD3E-BC09-44E6-B69C-2C8EFFB65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66CA-AC95-40C0-8B5D-F0354DEA7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84665-AD77-48BF-B8EF-4DE4FF84F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3A8AD-E2C6-4718-BF1F-41B170D80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12458-BB46-4096-9845-8269E8F847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42434-3012-4868-B239-2BDF2B0DAB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CEBAF-7A47-4AF1-8B36-CE4C4F4DF1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C6458-3329-4D1A-9ADE-E50278B59C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E9001-F801-42C2-89E1-E99C3801F1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C8C56-9850-4EBC-B2A6-F00ACE158F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8BB5F-A922-46B3-AF5B-24CDDF1898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F4B18-5374-4F9F-9287-C9B1679A0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10039-F2E4-4C49-B078-F85431D2AD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E8CF1-E6A9-44F0-8136-66A2D074CC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669DE-EF61-4CE4-B5C0-A7AE538C77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D0817-F303-47E5-96BF-1AD4AF07CA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01EE7-1398-407E-BF4B-C59A87BB90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E9D3-3D76-4A1C-8D58-892BDA673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35E80-BAAA-4784-8B0C-9869CC66C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77CF-032B-4911-B36B-DD37ED517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42CEC-EC81-4692-B8B3-126EB492D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B755D-2584-4913-93E8-50573EC9A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4EDBC-5490-4238-B9F3-6B54146D7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FFE9-FF73-48A9-AFAD-ABA0D9339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248160" y="4724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D87BD68-A6E1-46C2-AE08-F07EDFECA63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4B037EB-A1F9-401D-A6ED-B1FCDC865C2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EDE8E3D-CB1C-41B3-BD1E-50C0BE203DB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cy a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ploy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D52D050-EA57-4361-9141-A438D89E8B7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atific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trictions on ra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ve been possible to enter into contract  at time of ra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ve been possible to enter into contract at time agent purported to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ratify within reasonable time after agent’s unauthorized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CBC15E1-5693-4DF4-94C9-D57CF0A3807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icarious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n one person is held responsible for the torts committed by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th principal and agent may be held respo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re agent is employee, there will be vicarious liability if employee acting within scop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0A72CF9-B4A7-4007-8598-1896CBB7DB6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icarious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ability for agent that is independent contractor is more restri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incipal only liable if tort causing injury took place during actual exercise of authority gr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ually restricted to fraud and negligent mis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agent passed information on innocently, then only principal who gave information is 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F8C16BC-4F5B-420D-AD7E-615144CE40E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icarious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imposed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e may impose liability on owner of a vehicle when another has been given permission to use motor vehicle (either expressly or impli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ECF2085-B4A5-4B8D-97F5-A42089834B9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 – Third Party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enerally, third party has no claim against a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agent has exceeded authority, third party can sue agent for claiming authority not possessed (i.e. tort of “breach of warranty of authority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4C82D752-43FB-4A20-BCF2-9B3946A2E8B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 – Third Party Relationship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disclosed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agent does not disclose he/she is acting as an agent or refuses to disclose who the principal is, third party must sue the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identity of principal is learned, a (binding) choice must be made as to which party to 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for undisclosed principal is not binding if identity of undisclosed principal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4C5AC24-B4E8-4F1D-A591-2F6FF8255FF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-Principal Relationshi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uciary duty – agent’s obligation to act in the best interests of the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s duty of utmost good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take personal advantage of business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disclose all conflicts of inter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ake full disclosure of al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act only for one side in a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3931457-2FC0-4300-8AC8-D71FE929922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-Principal Relationship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uciary duty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not make profit at expense of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s duty of 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take secret commissions (crimi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s duty to act compet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delegate responsibilities (except where based on certain industry pract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4451032-DF58-4571-B925-927F1A93D30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d of Agency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ual authority normally ends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ob is fin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ent receives different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ment or agency relationship is changed or 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ual authority also ends when project becomes illegal or the principal dies, goes bankrupt, or becomes ins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DC31698-4D2B-4A55-9008-104E613EFF2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d of Agency Relationship 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ssue of apparent authority rem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st to avoid apparent authority from the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re apparent authority exists, principal must notify customers and suppliers who deal with agent when agency relationship 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wer of attorney that continues after principal becomes mentally incapacitated now possi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2D2C75F-08EE-4872-9D76-2A27C5B020D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roles and limitations placed on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the liability of principals and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fiduciary duty of agents and princip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ppropriate process for disciplining and terminating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the role of unions in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0CD6101-DFF4-4847-B1A5-7832791FCB8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istorically recognized as master-servant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lationship now based on contr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tantial amount of legislation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ecialized statutes deal with collective bargaining and unionized work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A8A5D33-3B77-4C9B-849E-E4497C4B495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initions of 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ory tests limited to operation of specific stat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ol Test - Historical test to determine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dependent contractors control their own hours and how they do th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mployees work under direction of employer and can be told what to do and how to d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F7EDDE6-D9EF-4239-96DE-8BDFD9599CA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initions of Employment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rganizatio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he individual is an integral and essential part of the organization, he/she is an 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dependent contractor works for 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ant to differentiate as employers are vicariously liable for torts within scop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9DC62DA-FEF2-40F4-8DDC-BA0272FE39C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bligations of Emplo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 must prov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fe work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ppropriate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ols where appropr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imbursement for exp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other requirements included in employment contract, e.g. provide medical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5870272-6873-411F-A391-72E201FD9CD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bligations of Employ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 reasonably compe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ve the skills clai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 honest, punctual, lo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erform the work agre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we a fiduciary duty if manager or key 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8F28D92-1C3E-4B92-B6FA-CFF619E9855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der common law, must give reasonable notice of termination (in absence of “just caus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give notice or pay in lieu of no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ment contract may contain terms related to 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nimum statutory requirements must always be met, but often employee will receive much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63832DA0-0FDF-4898-8FE3-6B30C1CB88F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sonable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sed on length of service, importance of job, age, likelihood of finding other employme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ule of thumb is one month per year of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Employment Standards Act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stablish minimum required no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002C106-E4E8-467C-AEB8-3183BD87938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ice Peri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534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6EE6325-E2FF-43CF-A6E3-98490999D33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st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 notice of termination required if just cause dismi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eing dishonest with employer or acted immo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victed of crime that interferes with ability to perform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obeyed lawful instruction from 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mmitted an actionable wrong on the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ed on a re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A000B10-C7D3-4A70-9BAC-288AB6C0C1B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st Caus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ompe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clearly inform employee of shortcomings and give him/her a chance to im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hould have regular eval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acceptable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not constitute just cause unless very se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vide reprimand and counseling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hould provide progressive 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97BC7F5-1A34-4185-AF98-C625C175A27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obligations of employers in providing a safe work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list of best practices that reduce risk of employee suing for unjust dismi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impact of criminal activity 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95E8E45-21BE-43B8-ADAE-B7C9033FD8B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st Caus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ability to perform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uman rights legislation requires employer  to accommodate disabled employees providing it doesn’t place unreasonable burden 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disability results in permanent incapacity to return to work, employment contract will be terminated due to fru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ck of work due to economic downturn is not just cause for dismis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AD7643A-C448-434D-9D62-AFCF0C53C1D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rongful Dismis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involves disputes over whether or not adequate notice (or pay in lieu) was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just cause, even if found after termination, no notice (or pay in lieu)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laim is for difference in notice received and notice that should have been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cent cases severely restrict instances in which compensation may be increased if “bad faith” dismi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CCFD0C3-BA46-436B-A881-3DD01D3E36E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rongful Dismissal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y harm to the employee’s reputation may increase notic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also factor in regular bonuses and 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998A83B-8788-4520-BBDC-40D0D4B6655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rongful Dismissal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must make reasonable effort to mitigate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amages will be reduced by whatever employee makes during notice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instatement usually not an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possible if breach of stat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allowed under collectiv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D74B380-2275-4813-8928-1A36F6601B8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tructive Dismis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y demotion, transfer, or otherwise changing conditions of employment, employee may be made so uncomfortable that he/she will q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ther intentional or not, this is constructive dismiss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0879D62-F3C0-4617-B7CB-FEB8B593062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tructive Dismissal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can sue for wrongful dismis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’s obligation to mitigate may require him/her to take alternate position unless imprac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r should communicate with employee and try to identify appropriate arran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1DEDFF19-E2B1-4CB8-A46D-246B47DF0FB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 by Employ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may quit for cause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iven dangerous or illegal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properly p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ut into dangerous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no longer perform duties due to disability or ill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important term of employment contract b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8CE074CD-4DB4-4A91-9CB0-EB50F314055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 by Employe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may provide for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no contract, must give reasonable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much less than employer is required to give unless employee has special role i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liable for wrongful or inappropriate conduct when le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FBE1261-CC01-48BC-84A4-B5BA6FD7B79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 by Employe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not take confidential information, customer lists, secret formulas, or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not persuade customers to accompany employee to 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comply with restrictive covenant in contract if reaso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40FB8A0-B447-4AB6-9246-71563E90359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llective Barg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rkers banded together in 19</a:t>
            </a:r>
            <a:r>
              <a:rPr b="0" lang="en-CA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entury to fight poor working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Act modelled on the U.S.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agner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hich recognized right to organize collectively if supported by majority of 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our relations boards established to deal with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7BEE371-23F8-4B21-A89C-57C66B95935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ent: Someone who represents another (principal) in dealings with third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an employee or an independent contr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ually involves entering into contracts on behalf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instead include other services such as filing documents or negotiation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48881FD-2348-4B76-A6EF-1F686737392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eneral right for employees to be members of trade union and bargain colle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firmed as a right under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Charter of Rights and Freed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nagement and some essential services ex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he required minimum percentage of workers have signed up as members, union may apply to Labour Relations Board for 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DFA0EEE-7616-4C0F-A85A-98D9CC256C5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cognition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duced through certif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Jurisdictional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putes between unions as to who will represent new group of employees or who will perform certain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olved by application to Labour Relations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C11966A-3A5F-4B5A-8374-6A8E2436F60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er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bargaining unit is identified and requisite number of employees sign up, union applies to board for 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 some jurisdictions, with enough signatures, union can be certified without a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st jurisdictions require a certification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union is certified, employer must deal with union exclus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4B0AFBB5-6B94-444A-9F69-756B4AB1F03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ertific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interference with certification process is an unfair labour practice and prohib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riminal offence to fire or intimidate anyone from becoming member and may trigger automatic c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s have the right to comment on organization process and its effects 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s may also join together for bargaining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4899E496-FE65-4F4F-9F4F-8968F4D1C84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certified, either party can serve notice to commence barg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mbers of union must ratify collective agreement for it to be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ither party or the government can request mediation to assist with bargain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job action allowed during me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unsuccessful, mediator will “book ou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C0E41FD-7DEC-4FA8-88F8-C235D2903C4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reement must include certain te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y dispute during agreement (rights dispute) must be handled through a grievance process culminating in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rikes and walkouts illegal during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greement must be at least one year in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contract can be imposed by labour relations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65F97BCF-56BF-485F-A495-873869290CE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ions often insist on union shop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ture employees must join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ception for those with religious obj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may require a closed 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ly members of union will be h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ssible to have a Rand formula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t required to join union, but must pay dues and are subject to collective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eck-off provision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mployer deducts union dues from 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4F5F7E8-700E-4A31-8098-4EC1A7E77DF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ob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permitted during interest disp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pute over terms to be included in agre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have bargained in good faith; mediators must have booked out; must serve notice to other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rike – employees withdraw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ockout – employer closes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0F9B34B-323D-4ED5-A098-C798A417DA1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ob A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 will try to keep business running using management or replacement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ic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ppear at job site attempting to persuade customers, suppliers, and employees not to deal with 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not attempt to prevent someone from crossing picket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ade unions must properly represent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7A80B94-3E86-4564-8C6B-CC72A53A69F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mployment Legi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orkers’ 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mployers contribute to fund that works like insurance; pays if employee injured or becomes ill on the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stablishes health and safety standards in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ment insu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th employer and employee con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enefits paid to unemployed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44E1488E-ADB6-43C8-B518-0B38A645791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reation of Ag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ed when principal grants authority to agent on his/her behalf, usually by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created gratuit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May be inferred from conduct of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B60400D-4E52-4AEF-8882-CDF06F1B018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mployment Legisl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uman righ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hibits discrimination and hara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ment stand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 minimum standards for wages, notice, overtime, leav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ndards cannot be waived by contract unless higher standard is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 boards to hear compl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4FDCC203-0248-4BBF-91B0-4192DC58769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ant to establish good working relationship with employees, including clear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ir employment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ducation of employees and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ir disciplinary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know employee rights, including right to du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26612BC-CF1B-4557-A06C-77DAAC321E6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process of progressive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roblem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documentation of evidence of behaviour pattern (with records available for subsequent litig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regular evaluation reviews with problems iden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84BF35A6-EA79-4C7F-9652-571B5C1C25A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plifting and employee th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theft – Section 322 of Criminal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mischief (e.g., sabotage) – Section 430 of Criminal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ud – Section 380 of Criminal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lifting by customers – also theft, but usually involves lesser am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6FB4B6D5-001F-43B8-B43D-0405567FEA0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plifting and employee thef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ion and prevention of crime are 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alance costs against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employee morale and customer good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make employees aware of surveillance to avoid violation of privacy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s must be well-trained to deal with shoplif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FF6D5FD-75B4-4DA2-9AE5-EC2D9795F2A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thef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respect employee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use internal or police invest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reasonable grounds to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olice can get search war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prove beyond a reasonable doubt to pros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terminate employee for just 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not obstruct ju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BE75FE9-DC62-47C9-ABAA-17CCABE96E5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frau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ion is v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to inform employees of surveillance; privacy legislation varies by prov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yers should be involved at first stage (forensic au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use great care in dealing with employee termination, confidentiality, recovery of money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inal prosecution may be approp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C57FC7E-2344-4470-AED9-DBB82FD2305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ual authority may be expressed or im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pressed authority - When principal directly grants authority to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lied authority – Derived from expressed terms and surrounding circum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arent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does something to lead a third party to think agent has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party can rely on repres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7A9A87E-A3A7-4494-B7B1-F4B5A37522A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Estop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events employer from denying someone has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re principal does something to lead a third party to reasonably believe that the “agent” has authority to act, the principal cannot later deny such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sed on apparent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7559DFA-4D99-4921-96FF-57BDF529A1D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6914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AC0B735-E267-4092-B553-01ED5FFE2CB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a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re agent exceeds both actual and apparent authority, principal is not bound but may still ratify (creating a binding con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ratify intentionally by expressly rat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ratify inadvertently by principal taking some benefit under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rants retroactive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48:39Z</dcterms:created>
  <dc:creator>Client Name</dc:creator>
  <dc:description/>
  <dc:language>en-US</dc:language>
  <cp:lastModifiedBy>User</cp:lastModifiedBy>
  <dcterms:modified xsi:type="dcterms:W3CDTF">2012-04-24T16:29:27Z</dcterms:modified>
  <cp:revision>187</cp:revision>
  <dc:subject/>
  <dc:title>Slide 1</dc:title>
</cp:coreProperties>
</file>